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8C14-D778-4C2F-AA9C-D77594883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535D-662A-481E-AE10-987474A13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5390-8F5F-431A-BE84-F8035DE2B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9CE0-207A-4257-8853-3AD54C8762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8247-C42C-45D6-B0BE-4CDC71E4DE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F605-AF95-49E8-9730-9E9D802E7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24DE-8978-481D-83BE-7FF97FA2D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2DC2-3C93-40A3-BB49-5644D8ECA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554C-1317-4A80-BDAC-9C68A61BB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2CC05-532B-46FA-90CF-47F977455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7BBE-EC96-4357-9BDC-5C71C1E53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EB9A-D041-4DA8-9A70-B59F5E244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D9A4-A9B5-446B-81A0-30825A804E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motionmathgames.com/" TargetMode="External"/><Relationship Id="rId4" Type="http://schemas.openxmlformats.org/officeDocument/2006/relationships/hyperlink" Target="http://www.numberlineapp.com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tweetdeck.com/" TargetMode="External"/><Relationship Id="rId4" Type="http://schemas.openxmlformats.org/officeDocument/2006/relationships/hyperlink" Target="https://twitter.com/davidpetro314" TargetMode="External"/><Relationship Id="rId5" Type="http://schemas.openxmlformats.org/officeDocument/2006/relationships/hyperlink" Target="http://www.delicious.com/davidpetro" TargetMode="Externa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D9E7-E9AA-4528-8707-72F56111EE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7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4457880" cy="3313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raction App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D86E-9980-48C5-B301-61421A218E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2425680" cy="21844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662760" y="403848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otionmathgames.com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636800" y="3505320"/>
            <a:ext cx="45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umberlineapp.com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hea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5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some time to think about the next school year.  You may wan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gage in small group discussion around one of the Question Marks or Light Bulbs or any lingering burning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k on a resource  related to one of the Light Bul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tinue to explore the camp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A46C-04F6-4F9D-A5A6-D5F28CAE78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avid and Karen Go Camping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(“Novel in an Hour” strategy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752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Main Character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David and K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19DB-B517-4A8F-8C31-ECA37C043F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ular Callout 4"/>
          <p:cNvSpPr/>
          <p:nvPr/>
        </p:nvSpPr>
        <p:spPr>
          <a:xfrm rot="20326200">
            <a:off x="406080" y="2482560"/>
            <a:ext cx="1272960" cy="923760"/>
          </a:xfrm>
          <a:prstGeom prst="wedgeRoundRectCallout">
            <a:avLst>
              <a:gd name="adj1" fmla="val 49222"/>
              <a:gd name="adj2" fmla="val -229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poiler Aler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1828800" y="2362320"/>
            <a:ext cx="701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Plot Summary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:  Math Camp is finished and David and Karen decide to go camping for a few days to relax.  Unfortunately, they face a series of challenging and potentially dangerous situations, and it is only their knowledge of fractions that allows them to emerge triumphant and ready for school in the 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avid and Karen Go Camp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1 – David and Karen Put Up the 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2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3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4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5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6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7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1D2E-BE6D-4BC6-AA36-78465B55CD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90360"/>
            <a:ext cx="861048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b5ca9"/>
                </a:solidFill>
                <a:latin typeface="Arial"/>
              </a:rPr>
              <a:t>Ch. 1 – David and Karen Put Up the Tent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a beautiful camping spot,” said Karen.  “Let’s put up the tents under this tr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K,” said David, and she opened the bag containing the various pieces of the Coleman Easy-Set-Up Dome T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fter laying out all the pieces on the ground like a set of algebra tiles, Karen and David realized that the instructions were mis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’re not missing,” said David, “they’re in cod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1A52-8F5D-4C1D-A35E-5AD65CCC62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do we break the code?” said K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looks like we have to solve a problem or answer a question, and that will give us the key to the instructions,” said Dav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 have a choice of two questions,” said Dav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one should we do?”  asked Dav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7047-DD8A-4081-A10B-BA63B3DFA2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914400" y="2819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.  Solve for x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3378240" y="2622600"/>
                <a:ext cx="16509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TextBox 9"/>
          <p:cNvSpPr/>
          <p:nvPr/>
        </p:nvSpPr>
        <p:spPr>
          <a:xfrm>
            <a:off x="914400" y="3657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.  The fraction       can represent different relationships.   Describe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3197160" y="3460680"/>
                <a:ext cx="3081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uk.  I hate fractions.  Let’s do B.  It looks easier,” said K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ll,” said David, “2/5 could mean a linear measure, as in 2/5 of the distance between 0 and 1 on a number lin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d 2/5 could also mean a part-whole relationship as in 2 out of 5 people,” added K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could also mean a part-part relationship as in the ratio of length to width in a rectangle, 2 cm to 5 cm,” said Dav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0AAD-3F08-4116-8433-357770B3A2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6840" y="304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 sooner had David finished describing the third meaning when the instructions magically decoded themselves and became perfectly cl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fortunately, since they were the instructions to how to set up an above ground swimming pool, they were no help in setting up the t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night fell and it started to rain, David and Karen huddled under the tree, holding the tents over themse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 hope we don’t get hit by lightning,” said Dav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t least we’d be warm,” said K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809E-C369-4C41-AC0E-E82D41D6D9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rite Your Chapt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gs to include in your chap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description of a dilemma faced by Karen and 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problem to solve or a question to answer, that is related to fractions, that will allow them to solve their dilem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solution to the problem, or answer to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412D-99A4-4C9C-85F8-E5CB8530CE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9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ank You !!!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F0F1-ED11-4A76-8F34-4CFC9AFA6D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and consolidate key learnings from the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5E6B-E7DA-4C48-9DDA-69097ADA60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K-12 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sn’t that fu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id you take away from the K-4 and Gr.4-8 roo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ent on the experience of being the “tour guide” for our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72AC-1B23-437E-BEE2-7E87BDE816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Number Line - Reload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52D4-94BE-4653-86B5-B373EC6EBF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33520" y="1371600"/>
            <a:ext cx="8381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oncepts /ideas does this bring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uld this activity be used with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ketchpad sim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Key Learning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a minute and read our Key Learn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4A61-00BA-4B94-96DF-101EE26C30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ccess Criteria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(How I Know I’ve Learned…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w take a few minutes to walk around the room, looking at the work, and reading the success criteria on the blue car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747E-83FB-4E82-8975-89D01EF135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ight Bulbs and Puzzle Piec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flect on your learning this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 th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ere your Ah-ha moments?  What will you bring to your practice next ye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is still puzzling you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riefly jot down your thoughts on a “Light Bulb” and a “Puzzle Piece” and place them on the Learning 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8640-C0C5-4B9D-9E3A-8DF10CF3D7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 flipH="1">
            <a:off x="7086600" y="2895480"/>
            <a:ext cx="579600" cy="685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72576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sponse to Light Bulbs and Puzzles Piec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133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a few minutes to walk around the room reading and discussing the “Light Bulbs” and “Puzzles Pieces” with your colleagu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a sticker on any of these that resonat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CC88-6C00-419D-B952-67F0DC553D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witter is my Personal PLC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5137-242D-4677-829A-2B275C337D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962520" y="12193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3174840" cy="3174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163800" y="4495680"/>
            <a:ext cx="38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tweetdeck.com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4161960" y="457200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twitter.com/davidpetro31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2286000" y="5105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delicious.com/davidpetr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6"/>
          <a:srcRect l="0" t="34366" r="0" b="36392"/>
          <a:stretch/>
        </p:blipFill>
        <p:spPr>
          <a:xfrm>
            <a:off x="152280" y="5105520"/>
            <a:ext cx="2184480" cy="47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David Petro</cp:lastModifiedBy>
  <dcterms:modified xsi:type="dcterms:W3CDTF">2012-08-24T12:29:21Z</dcterms:modified>
  <cp:revision>50</cp:revision>
  <dc:subject/>
  <dc:title>&lt;Title&gt;</dc:title>
</cp:coreProperties>
</file>